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tif" ContentType="image/tiff"/>
  <Override PartName="/ppt/media/image6.png" ContentType="image/png"/>
  <Override PartName="/ppt/media/image3.tif" ContentType="image/tiff"/>
  <Override PartName="/ppt/media/image7.png" ContentType="image/png"/>
  <Override PartName="/ppt/media/image4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745C21-0AF6-4C14-B5A9-B3A9E4C1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E5E3E-6A61-4C19-834F-E9DBE10B7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33C0B-6C04-4569-A9B6-6A14D977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25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BDB90-0C85-4131-8F8F-C24A915E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8A4762-2762-4110-93CF-5E6EE7C3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C3E71B-079F-4033-9C33-903B23F89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D35-55A2-4AFA-9DC0-37C38B31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C9B-70B0-4EE5-9192-E67255F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1C5-62E2-44BD-A9AD-56DB3597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DEB-CCED-4680-B080-97C4D14D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584E-0B03-4E60-BD90-22087D8C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EFD-70A2-4BFF-8C27-234F06D6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A906-E028-43C7-91AA-5A7B6D67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F17E-71C8-4332-9629-3FD520D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17C-CFE7-45FB-B527-F152308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BDA4-58EE-4E91-9C03-1870196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318-4C08-4327-AE13-7C4D53FC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961-0B21-49B0-B6E2-D4AF71D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5602-92BE-4B88-A7E4-984366C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D4A-6029-4B13-BF20-4C1DCD4C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18B-E6A4-4669-BEDF-7609784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E83-B8B6-4DE3-9E0D-6E5C4B1C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4308-CE81-4C28-9F06-7454BDC5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39F-366E-43AD-8735-25ABAE18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F3A-9909-4D8A-8415-4C2D6B65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497-B5DE-4954-BB9B-2B6C85C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015-908E-4CAA-93EF-8A3365D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B49-F9E4-4D62-9279-7FD16FA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E0C-E13F-4D6F-83AD-2A0A80F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85D-38E8-49BE-A41D-0DBFF41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Lucida Sans Unicode"/>
                <a:ea typeface="ＭＳ Ｐゴシック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378444-2A31-4B31-BB28-F84E6CC9FE1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C9826-1EC7-4202-9EF3-6B513DC885B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TDDRetreat/weddell1deg.mov" TargetMode="External"/><Relationship Id="rId2" Type="http://schemas.microsoft.com/office/2007/relationships/media" Target="file://localhost/Users/dennis/Desktop/Work/TDDRetreat/weddell1deg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NSF/cice.h264.5.23.11.mov" TargetMode="External"/><Relationship Id="rId2" Type="http://schemas.microsoft.com/office/2007/relationships/media" Target="file://localhost/Users/dennis/Desktop/Work/NSF/cice.h264.5.23.11.mo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8532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SDCI Net: An integrated study of datacenter network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ohn Denn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0"/>
          </p:nvPr>
        </p:nvSpPr>
        <p:spPr>
          <a:xfrm>
            <a:off x="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6FEBDBC-63EE-498E-B40C-831C9F51AD14}" type="datetime1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/29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11"/>
          </p:nvPr>
        </p:nvSpPr>
        <p:spPr>
          <a:xfrm>
            <a:off x="815328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578C3A-0F59-49DE-8DAA-27246228B32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44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ssues/challenges with run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y large variability with I/O performan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-10x slowdown comm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00x slowdown was observ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ference with other job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DD2A-78A1-4299-88C7-E4FE7437BC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732CD4-2B8F-4EBF-AD1D-557C4F0C96FB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6" descr="etime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1430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Execution time for non-I/O CESM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53760" y="5638680"/>
            <a:ext cx="844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contention/congestion in message passing ne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D1C-EC4D-4214-8EC8-41F1E9E353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1EAEC1-12FB-4E8B-9914-C43040A7F51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6" descr="band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rite bandwidth for CESM I/O d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2666880" y="5486400"/>
            <a:ext cx="5745600" cy="1064880"/>
            <a:chOff x="2666880" y="5486400"/>
            <a:chExt cx="5745600" cy="1064880"/>
          </a:xfrm>
        </p:grpSpPr>
        <p:cxnSp>
          <p:nvCxnSpPr>
            <p:cNvPr id="138" name="Straight Arrow Connector 8"/>
            <p:cNvCxnSpPr/>
            <p:nvPr/>
          </p:nvCxnSpPr>
          <p:spPr>
            <a:xfrm flipH="1" flipV="1">
              <a:off x="2666880" y="5486400"/>
              <a:ext cx="762480" cy="762120"/>
            </a:xfrm>
            <a:prstGeom prst="straightConnector1">
              <a:avLst/>
            </a:prstGeom>
            <a:ln>
              <a:solidFill>
                <a:srgbClr val="2da2bf"/>
              </a:solidFill>
              <a:round/>
              <a:tailEnd len="med" type="arrow" w="med"/>
            </a:ln>
          </p:spPr>
        </p:cxnSp>
        <p:sp>
          <p:nvSpPr>
            <p:cNvPr id="139" name="TextBox 9"/>
            <p:cNvSpPr/>
            <p:nvPr/>
          </p:nvSpPr>
          <p:spPr>
            <a:xfrm>
              <a:off x="3455280" y="6095880"/>
              <a:ext cx="495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at happened on April 26, 2009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5CCD-6F60-4098-A85E-9731237C173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604988-1A90-42BD-AB86-969C5BA1E22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6" descr="fig6.png"/>
          <p:cNvPicPr/>
          <p:nvPr/>
        </p:nvPicPr>
        <p:blipFill>
          <a:blip r:embed="rId1"/>
          <a:srcRect l="-24578" t="0" r="-24578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rallel I/O variability on Krak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3E4B-B208-49C3-8FD6-FBE5A48D30F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FD989E-704E-4A33-81B8-27016861366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taApps: TRAC-2, 28M CPU hours, ~120 TB, NICS, [2011-2012]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AC, 590M CPU hours, ~6,000 TB, NCSA, [2012-2013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 Re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DAC, 7M CPU hours, ~51 TB, NER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n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eakthrough Science, 45M CPU hours, 200 TB, NW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tential climate experi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C1A8-52FB-4625-B0F3-144999ACEA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697E9E-A6D7-41D8-BF04-32BFC709ADB6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R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 (NCAR-Wyoming Supercomputer Cent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k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r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lorado State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California Berkl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orge Mason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Miam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Washingt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xas A&amp;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Hawa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ods Hole Oceanographic Institu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Potential climate experiments (con’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534-F65D-4EA7-AE4B-754C45C1B1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6503B6-C335-4CA9-99A1-ED0259CCEBC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gure gridFTP logging for data collection [Fall,Winter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te in 100Gb ANI testbed work [Dec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l profiling of MPI applications [Jan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analysis of MPI application profiling [March – July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gridFTP usage data [Jan – Sept 2012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imeline for 1st-ye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214-D529-47E3-9A2F-7366FF42D4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C250BB-E8F2-42AB-880D-F26387A919B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8A9-485E-4402-ADDA-4F42F2CF49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00EE-7D0A-4514-B058-41C985A97368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481400"/>
            <a:ext cx="4266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54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LNL Grand Challenge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2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ader [PI] , McClean, Ivanova, Boyle (LL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Vertenstein, Craig, Norto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ones (L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Worley (OR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acob (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0 year run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igh-Resolution 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CSM/CES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266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62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F 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nter [PI], Stan (COLA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Teragrid Allocation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35M SU (2009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8M SU (2011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155 year control run + several 50 year branche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55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BC78-FFC4-4F99-BBF1-0D5EA926B6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C79E64-6DA3-46CC-A82E-8E625BD84C9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PCC &amp; AR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82440"/>
            <a:ext cx="792432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governmental Panel on Climate Change (IPC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7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IPCC assesses the scientific, technical and socio-economical information relevant for the understanding of the risk of human-induced climate chang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fth Assessment Report (AR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SM pl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ro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run x 130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storica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0 runs x 5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80 runs x 9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,600 years of simulation/ 564 TB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63F-3C4D-4C80-8CDA-685EA226E8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CFCFF4-A9DE-4026-A535-F1A032BA3F2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7" descr="CESM-overview.tiff"/>
          <p:cNvPicPr/>
          <p:nvPr/>
        </p:nvPicPr>
        <p:blipFill>
          <a:blip r:embed="rId1"/>
          <a:stretch/>
        </p:blipFill>
        <p:spPr>
          <a:xfrm>
            <a:off x="-609480" y="304920"/>
            <a:ext cx="9753120" cy="609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92E-DE48-45F6-9429-BE12FEDB97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917BD0-5E19-4197-B672-F6B271F5ED75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mate Modeling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upled models Atmosphere-Ocean-Sea Ice-L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llenges of clim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many years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resolution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paralle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munity Earth System Model (CES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1720" indent="0">
              <a:lnSpc>
                <a:spcPct val="9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ly: Community Climate System Model (CCS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AF9-0657-4E80-A4B9-A8601C8F03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F473C4-1899-493E-9D3C-27E039C7D670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NCAR: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D. Baile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F. Bry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T. Craig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B. Ea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Edwards [IBM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Hear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Lindsa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Nor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M. Vertenstei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COLA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Kinter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St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Miami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640" spc="-1" strike="noStrike">
                <a:solidFill>
                  <a:srgbClr val="000000"/>
                </a:solidFill>
                <a:latin typeface="Arial"/>
                <a:ea typeface="Chalkboard"/>
              </a:rPr>
              <a:t>B. Kirtman</a:t>
            </a:r>
            <a:endParaRPr b="0" lang="en-US" sz="164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C. Berkeley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W. Collin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Yelick (NERSC)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Washington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Bitz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4038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Grant Support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FC03-97ER62402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PS02-07ER07-06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NSF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operative Grant NSF01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OCI-0749206 [PetaApps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1498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873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985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mputer Allocations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eraGrid TRAC @ NIC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 INCITE @ NERSC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LLNL Grand Challenge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hanks for Assistanc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ray, NICS, and NERSC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90920" y="1523880"/>
            <a:ext cx="2819160" cy="434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Fa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Kov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Jac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L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E. Hu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J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Maltr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L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B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Iva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J. McClean (Scri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A. Mi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ORN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Wor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578320" y="5943600"/>
            <a:ext cx="2602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halkboard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403D-2E2E-4E6C-9B15-A0CF498791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DAD029-33C4-4089-B369-334FDD4A326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6" descr="CESM-usage.tiff"/>
          <p:cNvPicPr/>
          <p:nvPr/>
        </p:nvPicPr>
        <p:blipFill>
          <a:blip r:embed="rId1"/>
          <a:stretch/>
        </p:blipFill>
        <p:spPr>
          <a:xfrm>
            <a:off x="0" y="304920"/>
            <a:ext cx="9143640" cy="6095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A15-7995-496F-8DA9-4C18D878DC9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D3D440-E8A2-4E03-980F-C5DAA7FD10F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How to efficient utilize very large comput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536-546F-4DEA-AE0B-832206D73D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A94AD-C7A5-4C07-A8B8-24B5D892D06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NSF PetaApps project (OCI-0792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ter, Stan (COL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ltra-High resolution clim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impact of weather noise on Clima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technical/Computer Science issu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~99,000 core Cray XT5 system at NICS [Krake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 TG allocat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5M CPU hours [2009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8M CPU hours [2011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EE15-0673-4DB6-9F7A-A28B5837D6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9B44C6-1B19-4DE9-9671-4046BCFE8041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eddell Sea: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ce thickness (1°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35000" y="1882800"/>
            <a:ext cx="5270040" cy="39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08DD-EE41-4416-AD28-82BC14B07F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2FDEEC-BCB3-4812-A176-01B45BCA5AD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09DE-54B5-4E09-9F2D-96D53F52A31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898052-A7FA-4AEB-A587-B3448DDCCB40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9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 configur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Ocean model [3600 x 2400 x 42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 Sea-ice model [3600 x 2400 x 20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Atmosphere  [576 x 384 x 26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Land  [576 x 384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8M CPU hou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844 cores for 4-5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00 TB of data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 to 1 TB per wall clock day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9120" y="107640"/>
            <a:ext cx="83610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7"/>
          <p:cNvGrpSpPr/>
          <p:nvPr/>
        </p:nvGrpSpPr>
        <p:grpSpPr>
          <a:xfrm>
            <a:off x="6007320" y="2971800"/>
            <a:ext cx="3044520" cy="1522080"/>
            <a:chOff x="6007320" y="2971800"/>
            <a:chExt cx="3044520" cy="1522080"/>
          </a:xfrm>
        </p:grpSpPr>
        <p:sp>
          <p:nvSpPr>
            <p:cNvPr id="121" name="Right Bracket 16"/>
            <p:cNvSpPr/>
            <p:nvPr/>
          </p:nvSpPr>
          <p:spPr>
            <a:xfrm>
              <a:off x="6934320" y="2971800"/>
              <a:ext cx="75960" cy="685440"/>
            </a:xfrm>
            <a:prstGeom prst="rightBracket">
              <a:avLst>
                <a:gd name="adj" fmla="val 8333"/>
              </a:avLst>
            </a:prstGeom>
            <a:noFill/>
            <a:ln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  <p:sp>
          <p:nvSpPr>
            <p:cNvPr id="122" name="TextBox 7"/>
            <p:cNvSpPr/>
            <p:nvPr/>
          </p:nvSpPr>
          <p:spPr>
            <a:xfrm>
              <a:off x="6007320" y="4038480"/>
              <a:ext cx="3044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4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H="1" flipV="1">
              <a:off x="7162560" y="3352680"/>
              <a:ext cx="6861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</p:grpSp>
      <p:grpSp>
        <p:nvGrpSpPr>
          <p:cNvPr id="124" name="Group 24"/>
          <p:cNvGrpSpPr/>
          <p:nvPr/>
        </p:nvGrpSpPr>
        <p:grpSpPr>
          <a:xfrm>
            <a:off x="5503680" y="1371600"/>
            <a:ext cx="3382920" cy="1599840"/>
            <a:chOff x="5503680" y="1371600"/>
            <a:chExt cx="3382920" cy="1599840"/>
          </a:xfrm>
        </p:grpSpPr>
        <p:sp>
          <p:nvSpPr>
            <p:cNvPr id="125" name="TextBox 6"/>
            <p:cNvSpPr/>
            <p:nvPr/>
          </p:nvSpPr>
          <p:spPr>
            <a:xfrm>
              <a:off x="5503680" y="1371600"/>
              <a:ext cx="33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100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Straight Arrow Connector 13"/>
            <p:cNvCxnSpPr/>
            <p:nvPr/>
          </p:nvCxnSpPr>
          <p:spPr>
            <a:xfrm flipH="1">
              <a:off x="7924680" y="1904760"/>
              <a:ext cx="4575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  <p:sp>
          <p:nvSpPr>
            <p:cNvPr id="127" name="Right Bracket 22"/>
            <p:cNvSpPr/>
            <p:nvPr/>
          </p:nvSpPr>
          <p:spPr>
            <a:xfrm>
              <a:off x="7772400" y="2057400"/>
              <a:ext cx="72720" cy="914040"/>
            </a:xfrm>
            <a:prstGeom prst="rightBracket">
              <a:avLst>
                <a:gd name="adj" fmla="val 8333"/>
              </a:avLst>
            </a:prstGeom>
            <a:noFill/>
            <a:ln w="38100"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227-D1F8-44FA-A2FF-9C938E428C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B979B2B-DD2D-4397-B834-76F6D512D3D0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8361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 (con’t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fl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on Kraken (NIC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er output from NICS to NCAR (100 – 180 MB/sec sustaine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chive on HP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nalysis using 55 TB project space at NC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B8A5-6615-4557-8CE7-EF59F5ACD9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7C06B2-B80F-4327-A76A-53981A563484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.thmx</Template>
  <TotalTime>5091</TotalTime>
  <Application>LibreOffice/7.4.7.2$Linux_X86_64 LibreOffice_project/40$Build-2</Application>
  <AppVersion>15.0000</AppVersion>
  <Words>1043</Words>
  <Paragraphs>231</Paragraphs>
  <Company>John Denn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42:27Z</dcterms:created>
  <dc:creator>John Dennis</dc:creator>
  <dc:description/>
  <dc:language>en-US</dc:language>
  <cp:lastModifiedBy>John Dennis</cp:lastModifiedBy>
  <dcterms:modified xsi:type="dcterms:W3CDTF">2011-09-30T15:54:19Z</dcterms:modified>
  <cp:revision>103</cp:revision>
  <dc:subject/>
  <dc:title>Scaling CCSM to a Petascal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